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074F9-5958-4743-A251-8B5F207C3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29A70-1E3D-42C2-9B46-3A194825D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3BE8F-536F-4F60-8D81-698C02EB5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02491-A687-41D9-9F30-C81DF1C14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D6FE9-0727-4455-8CF1-9FACBD5D2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0A832-9F9D-487A-BAB2-CD2DC1D27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782D8-53A8-4A43-B483-95BA13F68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340D6-8D2A-4C9E-8826-656761383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30820-8610-4E75-921F-72679909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FE070-9A18-4DE6-B80C-4528B4F0C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ABFBB-2C7F-4793-84CE-C8095B17F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77B32-8EBC-45E0-93A0-C5AD06F9B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62DA-033A-4A89-AB67-EF4E745C2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F1A-B2E7-4105-B182-BDB6E958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EF5-FF2B-44B3-9F96-0DD854D3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8D2-4857-4EDF-A4EA-D10765B9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282-8BCB-4BB9-B008-694EC503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98A-DD0B-4230-A404-618E1E47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040-C014-4601-ADE9-69060903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F81-25B9-4F1F-BEC0-0C19097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5A2-3FC6-470D-9910-2E5667A9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685-924C-400E-A325-23FB4988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B23-3E82-4406-87FB-F35BB39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44F-8919-4301-AAB1-35661B26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39C-FC21-4460-B956-3975743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49165-9A68-4656-BDA6-E3A2C543D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“Isms”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umber a piece of paper 1-9.  As you see numbered definitions appear on the screen, record the “ism” that corresponds with tha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stem in which the means of production (like factories and farms) and wealth are publicly owned and controlled by the gover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can be implemented completely or partia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asc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any of these terms seem ideologically opposed to each other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ich of these terms seem ideologically similar to each oth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ich of these ideas, if any, do you identify with?  Why do you identify with th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tical system that values democracy, individual rights, privately-owned property, and free market capital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Government control over all aspects of public and private life.  Power is held by just one ruling party or group and they push the country towards a specific ideolo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tical movement that promotes an extreme form of nationalism, a denial of individual rights, and dictatorial one-party r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system tries to eliminate anything that “weakens the sta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ly, it’s a socialist society that exists without a central gover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as never actually existed on a large sca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ypically ends up with a totalitarian state that implements a socialist econo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cy of avoiding political or military involvement with other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soci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The Fascist policies of the National Socialist German Worker’s par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totalitaria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aggressiv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Aryan racial supe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belonging to other national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29:05Z</dcterms:created>
  <dc:creator>Suzanne</dc:creator>
  <dc:description/>
  <dc:language>en-US</dc:language>
  <cp:lastModifiedBy>Suzanne</cp:lastModifiedBy>
  <dcterms:modified xsi:type="dcterms:W3CDTF">2013-12-10T15:37:28Z</dcterms:modified>
  <cp:revision>1</cp:revision>
  <dc:subject/>
  <dc:title>20th Century “Isms” Review</dc:title>
</cp:coreProperties>
</file>